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370-7B3A-4D06-8F12-83F5A109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8DC-D553-4F8F-892F-8698627A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C01-3238-48F1-B48F-EBA97B2A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49C-D3F2-4D5F-95E1-90063A90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7D3-003D-4FA1-870D-00BD001C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260-A945-4520-BF41-557B320F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BB6-0A1A-4502-B8C5-FB7B09A5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468-2607-4BD3-9DEF-1FAF8929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F1E-57B3-4386-8C2E-5447D7D8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E84-8435-407A-9C3D-E48ED90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041-7198-4158-BC8C-F96D12C0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E5E-9D92-46BF-8B6E-B19A83D3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D093-5F41-43D4-8D88-FD6DC15DC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E-mai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l- Electronic mail which allows individuals with AN ACCOUNT TO SEND MESSAGES TO ANOTHER PERSON WITH AN E-MAIL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IRC-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INTERNET RELAY CHAT WAS DEVELOPED IN 1988 BY JARKKO OIKARINEN AND ALLOWA INSTANT ONLINE COMMINICATING WITH SOMONE ELSE WHO IS ALSO ONLINE BY TYPING MESSAGE BACK AND F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BBS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-BULLETIN BOARD SERVICE ALLOWS A USER TO PARTICIPATE IN A DISCUSS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HTTP-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HYPERTEXT TRANSFER PROTOCOL IS USED FOR HANDLING THE TRANSMISSION OF PAGES BETWEEN A WEB SERVER AND A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FTP-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FILE TRANSFER PROTOCOL IS USED TO RAPIDLY TRANSFER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TELNET-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A PROGRAM USED ON NETWORKS SUCH AS THE INTERNETTO ALLOW USERS TO RAPIDLY TRANSFER F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GOPHER-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ONE OF THE FIRST WIDESPREAD INTERNET BROWSING SERV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INTRANET-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A NETWORK USED BY A SINGLE ORGANIZATION AND ONLY ACCESSIBLE BY AUTHORIZED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IREWALL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A NEWORK SECURITY SYSTEM THAT PREVENTS UNAUTHORIZED NETWORK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tranet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an extended intranet that provides various level of access to authorized members of the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Online profiling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a marketing technique that collects online data about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ookies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 – small files that contain information about the web sites and individual has 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Usenet-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collection of servers that offer net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Bandwidth-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the amount of data and the speed at which the data can travel over the transmission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- a computer that accesses a server to reques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sl- 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Ethernet-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widely used protocol for lans that uses a bus or star topology and connects the network devices by twisted-pair wiring, coaxial cable ,or fiber 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Netiquette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-  the etiquette that should be followed when using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tocol- 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opology- the logical arrange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reless network-a type of network that does not require the use of c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twork interface card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circuit board that goes into the base unit of a computer or other device in a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internet service provider is a company that offers access to the internet foe a f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b site – a series of related 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esha Jenki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erio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ril 17,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4:55Z</dcterms:created>
  <dc:creator>763428</dc:creator>
  <dc:description/>
  <dc:language>en-US</dc:language>
  <cp:lastModifiedBy>763428</cp:lastModifiedBy>
  <dcterms:modified xsi:type="dcterms:W3CDTF">2009-04-17T16:05:56Z</dcterms:modified>
  <cp:revision>3</cp:revision>
  <dc:subject/>
  <dc:title>Vocabulary words</dc:title>
</cp:coreProperties>
</file>